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2.png" ContentType="image/png"/>
  <Override PartName="/ppt/media/image10.jpeg" ContentType="image/jpeg"/>
  <Override PartName="/ppt/media/image5.png" ContentType="image/png"/>
  <Override PartName="/ppt/media/whoosh.wav" ContentType="audio/x-wav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695-7978-4CB2-BAA9-FDECA47C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6408-E9CF-4993-810D-B116C343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A3B-2DB7-4AE4-9928-62416E13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74C6-1ECC-4E74-A47D-01855C7EA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7D01-8CD7-4311-AAC2-23855672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49B2-1858-4207-B9B3-7E42D2F2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2DC2-03A3-40C3-ADDA-978506C2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77A3-1056-4BA5-BAF1-8B0B942C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9A0E-61E2-4752-8680-A4E3C00E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A46D-088F-402D-93B4-7975C7A2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D48C-01A3-479C-99EF-A70F8F98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12C-8DC9-40DF-9839-048ABC6E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DF16-2D60-44C0-BA2F-624BE0E2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44CD-5BB5-4678-8EE6-9A86DFFC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D5E6-DA3A-4D2A-A58D-678C1F95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3097-2D28-4375-9508-C581CFF3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3DDF-0F45-401B-B42F-11DD24C57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934-2696-458B-AC01-CA091C52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99C-0B91-4B9A-98C4-A74B2D2C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4F0-627C-4534-8ED4-F56E9D75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063D-FD4B-439A-AB95-8688131B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BF1-C9AC-4D73-B8E2-48BBB1D0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AA8-A59A-4E35-915C-F98BC6F9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F09-6629-4AEB-8722-24573B30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FFBC-B85B-4B0F-B8A4-1B92F7CB47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80C2-C007-46ED-A9EA-9A56E48709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8001000" cy="5639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525720" y="1143000"/>
            <a:ext cx="261828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出师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诸葛亮辅佐刘备，历尽艰难坎坷，经过多年奋战，终于建立了蜀国，身负丞相重任。蜀建立两年，备病逝，刘禅继位（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岁）。他受遗诏辅佐刘禅，主持军政大事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27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年，率军北进，驻军汉中，准备征伐曹魏，夺取中原，复兴汉室。他感到刘禅暗昧懦弱，颇有内顾之忧，临出发前上书，恳切劝谏，要刘禅继承刘备遗志，砥砺志行，振作精神，听信忠言，任用贤良，黜斥佞人，严明赏罚，尽心国事，完成复兴汉室，统一天下的大业。这就是《出师表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2771640" cy="825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写作背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-396720" y="0"/>
            <a:ext cx="9540720" cy="66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60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听录音朗读课文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注意以下字的读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914400"/>
            <a:ext cx="843912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殂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     陛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       以塞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忠谏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j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àn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陟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h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      臧否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āng p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攸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ō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   以遗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è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bì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  咨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稗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阙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qu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漏       颓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u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桓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uá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猥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ě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       涕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危难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à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      二十有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ò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一年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夙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     驽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      攘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ǎ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彰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hān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    咎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i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       诹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zōu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2771640" cy="825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课文译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990720"/>
            <a:ext cx="5638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9144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此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危急存亡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1337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侍卫之臣不懈于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忠志之士忘身于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者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追先帝之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殊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9625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诚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开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圣听，以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先帝遗德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恢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志士之气，不宜妄自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菲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0"/>
            <a:ext cx="1219320" cy="7621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实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0"/>
            <a:ext cx="1219320" cy="7621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1295280"/>
            <a:ext cx="1219320" cy="7621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然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295280"/>
            <a:ext cx="1600200" cy="762120"/>
          </a:xfrm>
          <a:prstGeom prst="wedgeRoundRectCallout">
            <a:avLst>
              <a:gd name="adj1" fmla="val -45236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宫廷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200400"/>
            <a:ext cx="1219320" cy="762120"/>
          </a:xfrm>
          <a:prstGeom prst="wedgeRoundRectCallout">
            <a:avLst>
              <a:gd name="adj1" fmla="val -69791"/>
              <a:gd name="adj2" fmla="val -4750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边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91320" y="2666880"/>
            <a:ext cx="2743200" cy="762120"/>
          </a:xfrm>
          <a:prstGeom prst="wedgeRoundRectCallout">
            <a:avLst>
              <a:gd name="adj1" fmla="val -86634"/>
              <a:gd name="adj2" fmla="val 16041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特别厚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3352680"/>
            <a:ext cx="4114800" cy="762120"/>
          </a:xfrm>
          <a:prstGeom prst="wedgeRoundRectCallout">
            <a:avLst>
              <a:gd name="adj1" fmla="val -77814"/>
              <a:gd name="adj2" fmla="val -5875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表提示原因，不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5105520"/>
            <a:ext cx="1218960" cy="761760"/>
          </a:xfrm>
          <a:prstGeom prst="wedgeRoundRectCallout">
            <a:avLst>
              <a:gd name="adj1" fmla="val -83592"/>
              <a:gd name="adj2" fmla="val -128333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扩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4952880"/>
            <a:ext cx="3429000" cy="762120"/>
          </a:xfrm>
          <a:prstGeom prst="wedgeRoundRectCallout">
            <a:avLst>
              <a:gd name="adj1" fmla="val -66388"/>
              <a:gd name="adj2" fmla="val -104583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使……发扬光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2666880"/>
            <a:ext cx="3429000" cy="762120"/>
          </a:xfrm>
          <a:prstGeom prst="wedgeRoundRectCallout">
            <a:avLst>
              <a:gd name="adj1" fmla="val -12268"/>
              <a:gd name="adj2" fmla="val 128750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使……发扬光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5715000"/>
            <a:ext cx="1219320" cy="762120"/>
          </a:xfrm>
          <a:prstGeom prst="wedgeRoundRectCallout">
            <a:avLst>
              <a:gd name="adj1" fmla="val -71222"/>
              <a:gd name="adj2" fmla="val -128541"/>
              <a:gd name="adj3" fmla="val 1666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轻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819520" y="0"/>
            <a:ext cx="308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译第一段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9907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帝创建统一全国的大业还没有完成一半，就中途去世了。现在天下分裂成三国，我们蜀国贫困衰弱，这真正是形势危急、决定存亡的关头啊。可是，侍卫大臣们在宫廷里毫不懈怠，忠诚的将士们在边境上奋不顾身，这是因为他们追念先帝特殊恩典，想要在陛下身上来报答。（陛下）实在应该广泛的听取意见，发扬光大先帝遗留下来的美德，振奋有抱负的人们的志气，而不应当随便看轻自己，说一些不恰当的话，以致堵塞人们向您竭诚进谏的道路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43280" y="692280"/>
            <a:ext cx="167652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方正大標宋"/>
                <a:ea typeface="方正大標宋"/>
              </a:rPr>
              <a:t>引言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87640" y="2708280"/>
            <a:ext cx="4757760" cy="627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800000"/>
                </a:solidFill>
                <a:latin typeface="Times New Roman"/>
                <a:ea typeface="隶书"/>
              </a:rPr>
              <a:t>(1)</a:t>
            </a:r>
            <a:r>
              <a:rPr b="1" lang="zh-CN" sz="3500" spc="-1" strike="noStrike">
                <a:solidFill>
                  <a:srgbClr val="800000"/>
                </a:solidFill>
                <a:latin typeface="Times New Roman"/>
                <a:ea typeface="隶书"/>
              </a:rPr>
              <a:t>先帝崩殂</a:t>
            </a:r>
            <a:r>
              <a:rPr b="1" lang="zh-CN" sz="3500" spc="-1" strike="noStrike">
                <a:solidFill>
                  <a:srgbClr val="800000"/>
                </a:solidFill>
                <a:latin typeface="Times New Roman"/>
                <a:ea typeface="隶书"/>
              </a:rPr>
              <a:t>,</a:t>
            </a:r>
            <a:r>
              <a:rPr b="1" lang="zh-CN" sz="3500" spc="-1" strike="noStrike">
                <a:solidFill>
                  <a:srgbClr val="800000"/>
                </a:solidFill>
                <a:latin typeface="Times New Roman"/>
                <a:ea typeface="隶书"/>
              </a:rPr>
              <a:t>群龙无首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3789360"/>
            <a:ext cx="4751280" cy="550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(2) </a:t>
            </a: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天下三分</a:t>
            </a: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,</a:t>
            </a: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局势不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87640" y="4724280"/>
            <a:ext cx="4897440" cy="550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(3) </a:t>
            </a: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益州疲弊</a:t>
            </a: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,</a:t>
            </a: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形势险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765000"/>
            <a:ext cx="20350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PMingLiU"/>
              </a:rPr>
              <a:t>提出忠告的原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0"/>
            <a:ext cx="1371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课文解说  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(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第一段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1844640"/>
            <a:ext cx="7308720" cy="703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指出当前形势不利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,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因此要进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942560" y="2228760"/>
            <a:ext cx="1703880" cy="2833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800000"/>
                </a:solidFill>
                <a:latin typeface="方正隸變"/>
                <a:ea typeface="方正隸變"/>
              </a:rPr>
              <a:t>发奋图强</a:t>
            </a:r>
            <a:r>
              <a:rPr b="1" lang="zh-CN" sz="4000" spc="-1" strike="noStrike">
                <a:solidFill>
                  <a:srgbClr val="800000"/>
                </a:solidFill>
                <a:latin typeface="方正隸變"/>
                <a:ea typeface="方正隸變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2060640"/>
            <a:ext cx="1295280" cy="550800"/>
          </a:xfrm>
          <a:prstGeom prst="rect">
            <a:avLst/>
          </a:prstGeom>
          <a:solidFill>
            <a:srgbClr val="b0f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应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38560" y="3789360"/>
            <a:ext cx="1513080" cy="550800"/>
          </a:xfrm>
          <a:prstGeom prst="rect">
            <a:avLst/>
          </a:prstGeom>
          <a:solidFill>
            <a:srgbClr val="b0f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不应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95640" y="620640"/>
            <a:ext cx="302436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方正大標宋"/>
                <a:ea typeface="方正大標宋"/>
              </a:rPr>
              <a:t>勉励后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2852640"/>
            <a:ext cx="3816360" cy="550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多听进言，广泛纳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17840" y="4653000"/>
            <a:ext cx="3854520" cy="550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妄自菲薄，看轻自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96760" y="3056040"/>
            <a:ext cx="790200" cy="110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PMingLiU"/>
              </a:rPr>
              <a:t>正反对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0"/>
            <a:ext cx="1371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课文解说  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(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第一段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11970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不宜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异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328464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作奸犯科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忠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0" y="1844640"/>
            <a:ext cx="1295280" cy="216000"/>
          </a:xfrm>
          <a:custGeom>
            <a:avLst/>
            <a:gdLst>
              <a:gd name="textAreaLeft" fmla="*/ 227880 w 1295280"/>
              <a:gd name="textAreaRight" fmla="*/ 935640 w 129528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2691708"/>
                <a:lnTo>
                  <a:pt x="21165" y="7200"/>
                </a:lnTo>
                <a:lnTo>
                  <a:pt x="17300" y="0"/>
                </a:lnTo>
                <a:lnTo>
                  <a:pt x="12565" y="7200"/>
                </a:lnTo>
                <a:lnTo>
                  <a:pt x="14765" y="7200"/>
                </a:lnTo>
                <a:arcTo wR="7600" hR="21600" stAng="2708292" swAng="234512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08000" y="836640"/>
            <a:ext cx="1151280" cy="431640"/>
          </a:xfrm>
          <a:custGeom>
            <a:avLst/>
            <a:gdLst>
              <a:gd name="textAreaLeft" fmla="*/ 202320 w 1151280"/>
              <a:gd name="textAreaRight" fmla="*/ 831600 w 115128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00" hR="21600" stAng="10800000" swAng="5400000"/>
                <a:lnTo>
                  <a:pt x="11800" y="0"/>
                </a:lnTo>
                <a:arcTo wR="7600" hR="21600" stAng="-5400000" swAng="2691708"/>
                <a:lnTo>
                  <a:pt x="21165" y="14400"/>
                </a:lnTo>
                <a:lnTo>
                  <a:pt x="17300" y="21600"/>
                </a:lnTo>
                <a:lnTo>
                  <a:pt x="12565" y="14400"/>
                </a:lnTo>
                <a:lnTo>
                  <a:pt x="14765" y="14400"/>
                </a:lnTo>
                <a:arcTo wR="7600" hR="21600" stAng="-2708292" swAng="-2345122"/>
                <a:lnTo>
                  <a:pt x="9700" y="841"/>
                </a:lnTo>
                <a:arcTo wR="7600" hR="21600" stAng="-5746586" swAng="-5053414"/>
                <a:close/>
              </a:path>
              <a:path fill="darkenLess" w="21600" h="21600">
                <a:moveTo>
                  <a:pt x="0" y="21600"/>
                </a:moveTo>
                <a:arcTo wR="7600" hR="21600" stAng="10800000" swAng="5400000"/>
                <a:lnTo>
                  <a:pt x="7600" y="0"/>
                </a:lnTo>
                <a:arcTo wR="7600" hR="21600" stAng="-5400000" swAng="346586"/>
                <a:lnTo>
                  <a:pt x="9700" y="841"/>
                </a:lnTo>
                <a:arcTo wR="7600" hR="21600" stAng="-5746586" swAng="-5053414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184464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41497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如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56000" y="42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3933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Arial"/>
              </a:rPr>
              <a:t>……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08360" y="333360"/>
            <a:ext cx="3743280" cy="647640"/>
          </a:xfrm>
          <a:prstGeom prst="wedgeRoundRectCallout">
            <a:avLst>
              <a:gd name="adj1" fmla="val -70481"/>
              <a:gd name="adj2" fmla="val 1014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例如：否极泰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75248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宫廷和相府的人，都是国家的官员，提升、惩罚、表扬、批评，（标准）不应当有差别。如果有做坏事、触犯法令以及尽忠办好事的人，应当交给各主管部门决定对他们的惩罚和奖赏，来显示陛下公平严明的治理，而不应当有偏袒和私心，造成宫廷和相府有不同的法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819520" y="304920"/>
            <a:ext cx="308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译第二段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860120" y="2293920"/>
            <a:ext cx="1703880" cy="2701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800000"/>
                </a:solidFill>
                <a:latin typeface="Times New Roman"/>
                <a:ea typeface="方正隸變"/>
              </a:rPr>
              <a:t>处事公正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67280" y="2708280"/>
            <a:ext cx="37447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宮中府中，赏罚一致</a:t>
            </a:r>
            <a:r>
              <a:rPr b="1" lang="zh-CN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5516640"/>
            <a:ext cx="55436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作奸犯科者，应交负責官员处理</a:t>
            </a:r>
            <a:r>
              <a:rPr b="1" lang="zh-CN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828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95640" y="620640"/>
            <a:ext cx="302436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方正大標宋"/>
                <a:ea typeface="方正大標宋"/>
              </a:rPr>
              <a:t>勉励后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2016000"/>
            <a:ext cx="1150920" cy="550800"/>
          </a:xfrm>
          <a:prstGeom prst="rect">
            <a:avLst/>
          </a:prstGeom>
          <a:solidFill>
            <a:srgbClr val="b0f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应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3527280"/>
            <a:ext cx="1512720" cy="550800"/>
          </a:xfrm>
          <a:prstGeom prst="rect">
            <a:avLst/>
          </a:prstGeom>
          <a:solidFill>
            <a:srgbClr val="b0fc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不应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67280" y="4289400"/>
            <a:ext cx="374472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內外有別，偏私不公</a:t>
            </a:r>
            <a:r>
              <a:rPr b="1" lang="zh-CN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96760" y="3056040"/>
            <a:ext cx="790200" cy="110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PMingLiU"/>
              </a:rPr>
              <a:t>正反对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0"/>
            <a:ext cx="1371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课文解说  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(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第二段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735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427640" y="7174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8920" y="1989000"/>
            <a:ext cx="846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8000"/>
          </a:bodyPr>
          <a:p>
            <a:pPr marL="95760" indent="-9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国演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题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-957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24000" y="350028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0622"/>
                </a:solidFill>
                <a:latin typeface="Times New Roman"/>
              </a:rPr>
              <a:t>滚 滚 长 江 东 逝 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76720" y="5300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演唱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杨洪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" y="533520"/>
            <a:ext cx="86104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侍中、侍郎郭攸之、费祎、董允等人，都善良诚实，志向和心思都忠贞纯正，因此先帝把他们选拔出来留给陛下（使用）。我以为宫中的事情，不论大小，都拿来跟他们商量，然后实行，就一定能够补救缺点，防止疏漏，得到更多的成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军向宠，性情善良，做事公正，对军事精通熟练，从前试用他的时候，先帝曾称赞他有才干，因此大家商议，推举他做中部督。我认为军队中的事情，都可以拿来跟他商讨，就一定能使部队团结一心，把才能高的和才能低的都安排得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819520" y="304920"/>
            <a:ext cx="308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译第三、四段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56000" y="1600200"/>
            <a:ext cx="1330200" cy="58140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華康仿宋體W4"/>
                <a:ea typeface="華康仿宋體W4"/>
              </a:rPr>
              <a:t>姓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2590920"/>
            <a:ext cx="1330200" cy="58140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華康仿宋體W4"/>
                <a:ea typeface="華康仿宋體W4"/>
              </a:rPr>
              <a:t>特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5638680"/>
            <a:ext cx="1330200" cy="58140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華康仿宋體W4"/>
                <a:ea typeface="華康仿宋體W4"/>
              </a:rPr>
              <a:t>好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56000" y="3581280"/>
            <a:ext cx="1330200" cy="58140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華康仿宋體W4"/>
                <a:ea typeface="華康仿宋體W4"/>
              </a:rPr>
              <a:t>证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56000" y="4648320"/>
            <a:ext cx="1330200" cy="58140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華康仿宋體W4"/>
                <a:ea typeface="華康仿宋體W4"/>
              </a:rPr>
              <a:t>工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1600200"/>
            <a:ext cx="4392720" cy="581400"/>
          </a:xfrm>
          <a:prstGeom prst="rect">
            <a:avLst/>
          </a:prstGeom>
          <a:solidFill>
            <a:srgbClr val="b0fcc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華康仿宋體W4"/>
                <a:ea typeface="華康仿宋體W4"/>
              </a:rPr>
              <a:t>郭攸之、費祎、董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590920"/>
            <a:ext cx="4438800" cy="581400"/>
          </a:xfrm>
          <a:prstGeom prst="rect">
            <a:avLst/>
          </a:prstGeom>
          <a:solidFill>
            <a:srgbClr val="b0fcc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華康仿宋體W4"/>
                <a:ea typeface="華康仿宋體W4"/>
              </a:rPr>
              <a:t>皆善良忠实、志虑忠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3581280"/>
            <a:ext cx="4392720" cy="581400"/>
          </a:xfrm>
          <a:prstGeom prst="rect">
            <a:avLst/>
          </a:prstGeom>
          <a:solidFill>
            <a:srgbClr val="b0fcc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先帝简拔留給后主之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5659560"/>
            <a:ext cx="4392720" cy="581400"/>
          </a:xfrm>
          <a:prstGeom prst="rect">
            <a:avLst/>
          </a:prstGeom>
          <a:solidFill>
            <a:srgbClr val="b0fcc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可裨補闕漏，有所广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4648320"/>
            <a:ext cx="4392720" cy="581400"/>
          </a:xfrm>
          <a:prstGeom prst="rect">
            <a:avLst/>
          </a:prstGeom>
          <a:solidFill>
            <a:srgbClr val="b0fcc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谘以宮中之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3640" y="549360"/>
            <a:ext cx="46800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方正大標宋"/>
                <a:ea typeface="方正大標宋"/>
              </a:rPr>
              <a:t>推荐</a:t>
            </a:r>
            <a:r>
              <a:rPr b="0" lang="zh-CN" sz="4000" spc="-1" strike="noStrike">
                <a:solidFill>
                  <a:srgbClr val="00cc99"/>
                </a:solidFill>
                <a:latin typeface="方正大標宋"/>
                <a:ea typeface="方正大標宋"/>
              </a:rPr>
              <a:t>宮中贤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189000"/>
            <a:ext cx="1371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课文解说  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(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第三段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627280" y="1600200"/>
            <a:ext cx="144000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標楷體"/>
                <a:ea typeface="華康仿宋體W4"/>
              </a:rPr>
              <a:t>姓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27280" y="2438280"/>
            <a:ext cx="144000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標楷體"/>
                <a:ea typeface="華康仿宋體W4"/>
              </a:rPr>
              <a:t>特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27280" y="4981680"/>
            <a:ext cx="144000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標楷體"/>
                <a:ea typeface="華康仿宋體W4"/>
              </a:rPr>
              <a:t>好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27280" y="3284640"/>
            <a:ext cx="142236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標楷體"/>
                <a:ea typeface="華康仿宋體W4"/>
              </a:rPr>
              <a:t>证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4114800"/>
            <a:ext cx="144000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標楷體"/>
                <a:ea typeface="華康仿宋體W4"/>
              </a:rPr>
              <a:t>工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02320" y="1600200"/>
            <a:ext cx="4190760" cy="581400"/>
          </a:xfrm>
          <a:prstGeom prst="rect">
            <a:avLst/>
          </a:prstGeom>
          <a:solidFill>
            <a:srgbClr val="b0fcc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標楷體"/>
                <a:ea typeface="華康仿宋體W4"/>
              </a:rPr>
              <a:t>向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02320" y="2438280"/>
            <a:ext cx="4190760" cy="581400"/>
          </a:xfrm>
          <a:prstGeom prst="rect">
            <a:avLst/>
          </a:prstGeom>
          <a:solidFill>
            <a:srgbClr val="b0fcc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標楷體"/>
                <a:ea typeface="方正舒体"/>
              </a:rPr>
              <a:t>性行淑均，晓畅军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02320" y="3276720"/>
            <a:ext cx="4190760" cy="581400"/>
          </a:xfrm>
          <a:prstGeom prst="rect">
            <a:avLst/>
          </a:prstGeom>
          <a:solidFill>
            <a:srgbClr val="b0fcc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先帝称赞，众人拥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02320" y="5002200"/>
            <a:ext cx="4190760" cy="581400"/>
          </a:xfrm>
          <a:prstGeom prst="rect">
            <a:avLst/>
          </a:prstGeom>
          <a:solidFill>
            <a:srgbClr val="b0fcc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行阵和睦，优劣得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02320" y="4114800"/>
            <a:ext cx="4190760" cy="581400"/>
          </a:xfrm>
          <a:prstGeom prst="rect">
            <a:avLst/>
          </a:prstGeom>
          <a:solidFill>
            <a:srgbClr val="b0fcc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谘以营中之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88000" y="5950080"/>
            <a:ext cx="14479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PMingLiU"/>
              </a:rPr>
              <a:t>组织勻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772400" y="3429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59280" y="5950080"/>
            <a:ext cx="9144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PMingLiU"/>
              </a:rPr>
              <a:t>事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49360"/>
            <a:ext cx="46800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方正舒体"/>
                <a:ea typeface="方正舒体"/>
              </a:rPr>
              <a:t>推荐</a:t>
            </a:r>
            <a:r>
              <a:rPr b="0" lang="zh-CN" sz="4000" spc="-1" strike="noStrike">
                <a:solidFill>
                  <a:srgbClr val="00cc99"/>
                </a:solidFill>
                <a:latin typeface="方正舒体"/>
                <a:ea typeface="方正舒体"/>
              </a:rPr>
              <a:t>营中武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260280"/>
            <a:ext cx="1371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课文解说  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(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第四段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6094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注意以下字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8288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贤臣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24382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亲近，形作动；远离，形作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200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此先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所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兴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3809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原因        语气词，揭示原因，不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5720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此悉贞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死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4864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为节而死，死，为动用法；节，义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09480" y="137160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亲近贤臣，疏远小人，这是先汉兴旺发达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原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亲近小人，疏远贤臣，这是后汉倾覆衰败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原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先帝在世的时候，每逢跟我谈论这些事情，没有一次不对桓、灵二帝的做法感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痛心遗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。侍中、尚书、长史、参军这些人都是正直、有才干而且能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以死报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臣子，希望陛下亲近他们，信任他们，这样汉朝的兴隆就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为期不远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819520" y="304920"/>
            <a:ext cx="308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译第五段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80" dur="1" fill="hold"/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31400" y="2122560"/>
            <a:ext cx="1703880" cy="282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800000"/>
                </a:solidFill>
                <a:latin typeface="Times New Roman"/>
                <a:ea typeface="方正隸變"/>
              </a:rPr>
              <a:t>亲贤远佞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84720" y="2060640"/>
            <a:ext cx="2158920" cy="550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以史为鉴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13080" y="2924280"/>
            <a:ext cx="2590920" cy="520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方正行楷"/>
                <a:ea typeface="方正行楷"/>
              </a:rPr>
              <a:t>前汉 → </a:t>
            </a:r>
            <a:r>
              <a:rPr b="0" lang="zh-CN" sz="2800" spc="-1" strike="noStrike">
                <a:solidFill>
                  <a:srgbClr val="ff0066"/>
                </a:solidFill>
                <a:latin typeface="方正行楷"/>
                <a:ea typeface="方正行楷"/>
              </a:rPr>
              <a:t>兴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13080" y="3933720"/>
            <a:ext cx="2303640" cy="520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方正行楷"/>
                <a:ea typeface="方正行楷"/>
              </a:rPr>
              <a:t>后汉</a:t>
            </a:r>
            <a:r>
              <a:rPr b="0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→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倾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4480" y="533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20400" y="2946240"/>
            <a:ext cx="790200" cy="1108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PMingLiU"/>
              </a:rPr>
              <a:t>正反对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85480" y="3308400"/>
            <a:ext cx="790200" cy="600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PMingLiU"/>
              </a:rPr>
              <a:t>史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34320" y="56386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40360" y="549360"/>
            <a:ext cx="316836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方正大標宋"/>
                <a:ea typeface="方正大標宋"/>
              </a:rPr>
              <a:t>劝谏后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95640" y="5229360"/>
            <a:ext cx="4032360" cy="550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不应重蹈后汉覆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280" y="260280"/>
            <a:ext cx="1371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方正舒体"/>
                <a:ea typeface="方正舒体"/>
              </a:rPr>
              <a:t>课文解说  </a:t>
            </a:r>
            <a:r>
              <a:rPr b="1" lang="zh-CN" sz="3900" spc="-1" strike="noStrike">
                <a:solidFill>
                  <a:srgbClr val="000000"/>
                </a:solidFill>
                <a:latin typeface="方正舒体"/>
                <a:ea typeface="方正舒体"/>
              </a:rPr>
              <a:t>(</a:t>
            </a:r>
            <a:r>
              <a:rPr b="1" lang="zh-CN" sz="3900" spc="-1" strike="noStrike">
                <a:solidFill>
                  <a:srgbClr val="000000"/>
                </a:solidFill>
                <a:latin typeface="方正舒体"/>
                <a:ea typeface="方正舒体"/>
              </a:rPr>
              <a:t>第五段</a:t>
            </a:r>
            <a:r>
              <a:rPr b="1" lang="zh-CN" sz="3900" spc="-1" strike="noStrike">
                <a:solidFill>
                  <a:srgbClr val="000000"/>
                </a:solidFill>
                <a:latin typeface="方正舒体"/>
                <a:ea typeface="方正舒体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97440" y="2708280"/>
            <a:ext cx="4030560" cy="916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先帝对</a:t>
            </a:r>
            <a:r>
              <a:rPr b="1" lang="zh-CN" sz="2700" spc="-1" strike="noStrike" u="sng">
                <a:solidFill>
                  <a:srgbClr val="660066"/>
                </a:solidFill>
                <a:uFillTx/>
                <a:latin typeface="華康行書體"/>
                <a:ea typeface="華康行書體"/>
              </a:rPr>
              <a:t>桓</a:t>
            </a:r>
            <a:r>
              <a:rPr b="1" lang="zh-CN" sz="27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、</a:t>
            </a:r>
            <a:r>
              <a:rPr b="1" lang="zh-CN" sz="2700" spc="-1" strike="noStrike" u="sng">
                <a:solidFill>
                  <a:srgbClr val="660066"/>
                </a:solidFill>
                <a:uFillTx/>
                <a:latin typeface="華康行書體"/>
                <a:ea typeface="華康行書體"/>
              </a:rPr>
              <a:t>灵</a:t>
            </a:r>
            <a:r>
              <a:rPr b="1" lang="zh-CN" sz="27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二帝因宠信小人致国家衰敗的遗憾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51280" y="3860640"/>
            <a:ext cx="2590920" cy="550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5080" indent="-865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亲贤远佞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24480" y="533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25120" y="3344760"/>
            <a:ext cx="790200" cy="600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PMingLiU"/>
              </a:rPr>
              <a:t>事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34320" y="56386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40360" y="549360"/>
            <a:ext cx="316836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方正大標宋"/>
                <a:ea typeface="方正大標宋"/>
              </a:rPr>
              <a:t>劝谏后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51280" y="1989000"/>
            <a:ext cx="2521080" cy="550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继承先帝遗志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5640" y="4653000"/>
            <a:ext cx="4321440" cy="1131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应亲近贤臣</a:t>
            </a:r>
            <a:r>
              <a:rPr b="1" lang="zh-CN" sz="27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(</a:t>
            </a:r>
            <a:r>
              <a:rPr b="1" lang="zh-CN" sz="27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再次推荐人才</a:t>
            </a:r>
            <a:r>
              <a:rPr b="1" lang="zh-CN" sz="27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光复汉室指日可待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333360"/>
            <a:ext cx="1371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课文解说  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(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第五段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82200" y="2411280"/>
            <a:ext cx="1703880" cy="2828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800000"/>
                </a:solidFill>
                <a:latin typeface="Times New Roman"/>
                <a:ea typeface="方正隸變"/>
              </a:rPr>
              <a:t>亲贤远佞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143000" y="6094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注意以下字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1700280"/>
            <a:ext cx="79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性命于乱世，不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闻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诸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2924280"/>
            <a:ext cx="38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先帝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卑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5280" y="5300640"/>
            <a:ext cx="798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遂许先帝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驱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倾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5640" y="2349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姑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2276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闻名显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0920" y="342900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42900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地位低微，目光短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4076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枉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4581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辱，降低身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71640" y="4653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屈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59500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以，来。驱驰，奔走效劳。值，碰上，遇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1371600"/>
            <a:ext cx="76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本来是平民，亲自在南阳耕田，只想在乱世中保全自己，不谋求在诸侯那里扬名做官。先帝不嫌我地位低微，见识浅陋，降低自己的身份，三次到茅庐来探望我，向我询问当代的大事，我因此十分感动而奋发，就答应为先帝奔走效劳。后来遇到严重挫折，在兵败的时候接受重任，在危难的关头奉命出使，从那时到现在，已经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819520" y="304920"/>
            <a:ext cx="308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译第六段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51280" y="1413000"/>
            <a:ext cx="3429000" cy="550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感激先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51280" y="4815000"/>
            <a:ext cx="3429000" cy="550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尽忠后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11640" y="1996920"/>
            <a:ext cx="3745080" cy="550800"/>
          </a:xfrm>
          <a:prstGeom prst="rect">
            <a:avLst/>
          </a:prstGeom>
          <a:solidFill>
            <a:srgbClr val="ffcc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知遇之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2693880"/>
            <a:ext cx="3745080" cy="550800"/>
          </a:xfrm>
          <a:prstGeom prst="rect">
            <a:avLst/>
          </a:prstGeom>
          <a:solidFill>
            <a:srgbClr val="ffcc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忠心报效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10200" y="6192720"/>
            <a:ext cx="3817800" cy="550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仿宋_GB2312"/>
                <a:ea typeface="仿宋_GB2312"/>
              </a:rPr>
              <a:t>再请后主亲贤纳谏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10200" y="5448240"/>
            <a:ext cx="3817800" cy="550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訂下未來工作目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5640" y="549360"/>
            <a:ext cx="316872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方正大標宋"/>
                <a:ea typeface="方正大標宋"/>
              </a:rPr>
              <a:t>感恩明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69480" y="2649600"/>
            <a:ext cx="1703880" cy="2638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800000"/>
                </a:solidFill>
                <a:latin typeface="Times New Roman"/>
                <a:ea typeface="方正隸變"/>
              </a:rPr>
              <a:t>表白心志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7000" y="3429000"/>
            <a:ext cx="3429000" cy="550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陈述北伐准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40360" y="4076640"/>
            <a:ext cx="3887640" cy="550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華康行書體"/>
                <a:ea typeface="華康行書體"/>
              </a:rPr>
              <a:t>兵甲己足、南方已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476280"/>
            <a:ext cx="1371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课文解说  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(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第六段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5148360" y="765000"/>
          <a:ext cx="3619440" cy="5214960"/>
        </p:xfrm>
        <a:graphic>
          <a:graphicData uri="http://schemas.openxmlformats.org/drawingml/2006/table">
            <a:tbl>
              <a:tblPr/>
              <a:tblGrid>
                <a:gridCol w="36194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ffff"/>
                          </a:solidFill>
                          <a:latin typeface="Arial"/>
                          <a:ea typeface="ˎ̥"/>
                        </a:rPr>
                        <a:t>白发渔樵江渚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  <a:ea typeface="ˎ̥"/>
                        </a:rPr>
                        <a:t>惯看秋月春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ffff"/>
                          </a:solidFill>
                          <a:latin typeface="Arial"/>
                          <a:ea typeface="ˎ̥"/>
                        </a:rPr>
                        <a:t>一壶浊酒喜相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  <a:ea typeface="ˎ̥"/>
                        </a:rPr>
                        <a:t>古今多少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ffff"/>
                          </a:solidFill>
                          <a:latin typeface="Arial"/>
                          <a:ea typeface="ˎ̥"/>
                        </a:rPr>
                        <a:t>都付笑谈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0" y="907920"/>
          <a:ext cx="5219640" cy="6828120"/>
        </p:xfrm>
        <a:graphic>
          <a:graphicData uri="http://schemas.openxmlformats.org/drawingml/2006/table">
            <a:tbl>
              <a:tblPr/>
              <a:tblGrid>
                <a:gridCol w="521964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ˎ̥"/>
                        </a:rPr>
                        <a:t>滚滚长江东逝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Arial"/>
                          <a:ea typeface="ˎ̥"/>
                        </a:rPr>
                        <a:t>浪花淘尽英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ˎ̥"/>
                        </a:rPr>
                        <a:t>是非成败转头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00"/>
                          </a:solidFill>
                          <a:latin typeface="Arial"/>
                          <a:ea typeface="ˎ̥"/>
                        </a:rPr>
                        <a:t>青山依旧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ˎ̥"/>
                        </a:rPr>
                        <a:t>几度夕阳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4356000" y="6426360"/>
            <a:ext cx="38102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56000" y="1341360"/>
            <a:ext cx="0" cy="5085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66240" y="1341360"/>
            <a:ext cx="0" cy="5085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8474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0948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注意以下字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184464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恐托付不效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以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帝之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306864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深入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41497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当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奖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军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中原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庶竭驽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53737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此臣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报先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忠陛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职分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87640" y="2421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以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67280" y="2421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使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……受到损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0920" y="357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名作动，长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4724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激励、率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4724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名作状，往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64000" y="479736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用尽自己平庸的才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42920" y="59832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的原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92360" y="6021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表并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80000" y="595008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743200" y="0"/>
            <a:ext cx="3086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译第七段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91764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帝知道我做事小心谨慎，所以临终时把国家大事托付给我。接受遗命以来，我日夜忧虑叹息，唯恐先帝的托付不能实现，以致损伤先帝的知人之明，所以我五月渡过泸水，深入到寸草不生的地方。现在南方已经平定，兵员装备已经充足，应当激励、率领全军将士向北方进军，平定中原，让我能用尽自己平庸的才智，铲除奸邪凶顽的敌人，恢复汉家的基业，回到旧日的都城。这就是我用来报答先帝，尽忠陛下的职责。至于权衡事情的得失利弊，毫无保留的向您提出忠诚的建议，那就是郭攸之、费祎、董允等人的责任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990720"/>
            <a:ext cx="8153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希望陛下责成我实现讨伐曹魏、复兴汉朝的大业，如果不能实现就治我的罪，来禀告先帝在天之灵。如果没有发扬美德的建议，就应当责备郭攸之、费祎、董允等人的怠慢，指明他们的过失。陛下也应当亲自多加考虑，（向他们）询问治国的正确道理，认识、采纳正确的意见，深切的追念先帝的遗命。（这样）我就受恩感激不尽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在我就要远离陛下，面对着这篇表章，我泪流满面，不知说了些什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743200" y="0"/>
            <a:ext cx="3086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译第八九段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627280" y="1989000"/>
            <a:ext cx="3457440" cy="550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Times New Roman"/>
                <a:ea typeface="華康行書體"/>
              </a:rPr>
              <a:t>再三勉励后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59280" y="2708280"/>
            <a:ext cx="4105080" cy="550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標楷體"/>
                <a:ea typeface="華康行書體"/>
              </a:rPr>
              <a:t>广开言路，多纳谏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59280" y="3429000"/>
            <a:ext cx="4033800" cy="550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標楷體"/>
                <a:ea typeface="華康行書體"/>
              </a:rPr>
              <a:t>应当一尽国君之責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27280" y="4967280"/>
            <a:ext cx="3456000" cy="550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Times New Roman"/>
                <a:ea typeface="華康行書體"/>
              </a:rPr>
              <a:t>表示临別依依之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95640" y="549360"/>
            <a:ext cx="316872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方正大標宋"/>
                <a:ea typeface="方正大標宋"/>
              </a:rPr>
              <a:t>总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5640" y="0"/>
            <a:ext cx="1371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課文解說  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(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第七—九段</a:t>
            </a:r>
            <a:r>
              <a:rPr b="1" lang="zh-CN" sz="3900" spc="-1" strike="noStrike">
                <a:solidFill>
                  <a:srgbClr val="000000"/>
                </a:solidFill>
                <a:latin typeface="Times New Roman"/>
                <a:ea typeface="方正琥珀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87640" y="4149720"/>
            <a:ext cx="3313080" cy="550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標楷體"/>
                <a:ea typeface="華康行書體"/>
              </a:rPr>
              <a:t>毋忘先帝遗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831240" y="765000"/>
            <a:ext cx="1399320" cy="5002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华文行楷"/>
                <a:ea typeface="华文行楷"/>
              </a:rPr>
              <a:t>表現的父子、君臣之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华文行楷"/>
                <a:ea typeface="华文行楷"/>
              </a:rPr>
              <a:t>《出师表》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84360" y="0"/>
            <a:ext cx="3457800" cy="550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Times New Roman"/>
                <a:ea typeface="華康行書體"/>
              </a:rPr>
              <a:t>父子之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11280" y="620640"/>
            <a:ext cx="6048360" cy="1818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仿宋_GB2312"/>
              </a:rPr>
              <a:t>指出先帝创业艰难，盼后主能发奋积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仿宋_GB2312"/>
              </a:rPr>
              <a:t>多</a:t>
            </a:r>
            <a:r>
              <a:rPr b="1" lang="zh-CN" sz="2800" spc="-1" strike="noStrike">
                <a:solidFill>
                  <a:srgbClr val="660066"/>
                </a:solidFill>
                <a:latin typeface="標楷體"/>
                <a:ea typeface="仿宋_GB2312"/>
              </a:rPr>
              <a:t>次提及先帝，劝告后主追念先帝遗训，亲贤远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標楷體"/>
                <a:ea typeface="仿宋_GB2312"/>
              </a:rPr>
              <a:t>述身世，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仿宋_GB2312"/>
              </a:rPr>
              <a:t>表明自己尽忠报先帝及为后主效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11280" y="3716280"/>
            <a:ext cx="3457800" cy="550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Times New Roman"/>
                <a:ea typeface="華康行書體"/>
              </a:rPr>
              <a:t>君臣之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11280" y="4365720"/>
            <a:ext cx="6120000" cy="1169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標楷體"/>
                <a:ea typeface="華康行書體"/>
              </a:rPr>
              <a:t>以臣子身份向后主提出建议及推荐人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標楷體"/>
                <a:ea typeface="華康行書體"/>
              </a:rPr>
              <a:t>说不得明自己北伐的决心及各大臣职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80720" y="1189080"/>
            <a:ext cx="1918080" cy="4435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6600"/>
                </a:solidFill>
                <a:latin typeface="方正大標宋"/>
                <a:ea typeface="方正大標宋"/>
              </a:rPr>
              <a:t>多次提及先帝的用意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6600"/>
                </a:solidFill>
                <a:latin typeface="方正大標宋"/>
                <a:ea typeface="方正大標宋"/>
              </a:rPr>
              <a:t>《出師表》中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84360" y="1268280"/>
            <a:ext cx="547380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Times New Roman"/>
                <a:ea typeface="方正行楷"/>
              </a:rPr>
              <a:t>感激先帝知遇之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84360" y="2492280"/>
            <a:ext cx="564048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Times New Roman"/>
                <a:ea typeface="方正舒体"/>
              </a:rPr>
              <a:t>感慨先帝创业艰辛，警惕后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556000" y="3789360"/>
            <a:ext cx="561636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Times New Roman"/>
                <a:ea typeface="華康行書體"/>
              </a:rPr>
              <a:t>以父子之情感动激励后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56000" y="4941720"/>
            <a:ext cx="568800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加强劝说后主的说服力和权威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523880" y="3962520"/>
            <a:ext cx="2667240" cy="1904760"/>
          </a:xfrm>
          <a:prstGeom prst="leftArrowCallout">
            <a:avLst>
              <a:gd name="adj1" fmla="val 35503"/>
              <a:gd name="adj2" fmla="val 33250"/>
              <a:gd name="adj3" fmla="val 37594"/>
              <a:gd name="adj4" fmla="val 66673"/>
            </a:avLst>
          </a:prstGeom>
          <a:solidFill>
            <a:srgbClr val="33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838080"/>
            <a:ext cx="3352680" cy="2743200"/>
          </a:xfrm>
          <a:prstGeom prst="leftArrowCallout">
            <a:avLst>
              <a:gd name="adj1" fmla="val 32290"/>
              <a:gd name="adj2" fmla="val 34375"/>
              <a:gd name="adj3" fmla="val 32071"/>
              <a:gd name="adj4" fmla="val 70664"/>
            </a:avLst>
          </a:prstGeom>
          <a:solidFill>
            <a:srgbClr val="33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280" y="838080"/>
            <a:ext cx="164268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ccff"/>
                </a:solidFill>
                <a:latin typeface="Times New Roman"/>
                <a:ea typeface="黑体"/>
              </a:rPr>
              <a:t>危急存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38280" y="8380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f026"/>
                </a:solidFill>
                <a:latin typeface="Times New Roman"/>
                <a:ea typeface="黑体"/>
              </a:rPr>
              <a:t>先帝崩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18288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f026"/>
                </a:solidFill>
                <a:latin typeface="Times New Roman"/>
                <a:ea typeface="黑体"/>
              </a:rPr>
              <a:t>天下三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81952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f026"/>
                </a:solidFill>
                <a:latin typeface="Times New Roman"/>
                <a:ea typeface="黑体"/>
              </a:rPr>
              <a:t>益州疲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62320" y="38862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f026"/>
                </a:solidFill>
                <a:latin typeface="Times New Roman"/>
                <a:ea typeface="黑体"/>
              </a:rPr>
              <a:t>内不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62320" y="510552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f026"/>
                </a:solidFill>
                <a:latin typeface="Times New Roman"/>
                <a:ea typeface="黑体"/>
              </a:rPr>
              <a:t>外忘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1600" y="3733920"/>
            <a:ext cx="164268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ccff"/>
                </a:solidFill>
                <a:latin typeface="Times New Roman"/>
                <a:ea typeface="黑体"/>
              </a:rPr>
              <a:t>欲报殊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29200" y="1219320"/>
            <a:ext cx="457200" cy="4419360"/>
          </a:xfrm>
          <a:custGeom>
            <a:avLst/>
            <a:gdLst>
              <a:gd name="textAreaLeft" fmla="*/ 0 w 457200"/>
              <a:gd name="textAreaRight" fmla="*/ 164880 w 457200"/>
              <a:gd name="textAreaTop" fmla="*/ 124200 h 4419360"/>
              <a:gd name="textAreaBottom" fmla="*/ 429516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0"/>
                  <a:pt x="10800" y="1940"/>
                </a:cubicBezTo>
                <a:lnTo>
                  <a:pt x="10800" y="8162"/>
                </a:lnTo>
                <a:cubicBezTo>
                  <a:pt x="10800" y="9132"/>
                  <a:pt x="16200" y="10102"/>
                  <a:pt x="21600" y="10102"/>
                </a:cubicBezTo>
                <a:cubicBezTo>
                  <a:pt x="16200" y="10102"/>
                  <a:pt x="10800" y="11072"/>
                  <a:pt x="10800" y="12042"/>
                </a:cubicBezTo>
                <a:lnTo>
                  <a:pt x="10800" y="19660"/>
                </a:lnTo>
                <a:cubicBezTo>
                  <a:pt x="10800" y="2063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10080" y="2362320"/>
            <a:ext cx="3962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  <a:ea typeface="黑体"/>
              </a:rPr>
              <a:t>诚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ff"/>
                </a:solidFill>
                <a:latin typeface="Times New Roman"/>
                <a:ea typeface="黑体"/>
              </a:rPr>
              <a:t>不宜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5000" y="42670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2c03"/>
                </a:solidFill>
                <a:latin typeface="Times New Roman"/>
                <a:ea typeface="黑体"/>
              </a:rPr>
              <a:t>（正反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86600" y="1828800"/>
            <a:ext cx="1219320" cy="533520"/>
          </a:xfrm>
          <a:prstGeom prst="upArrow">
            <a:avLst>
              <a:gd name="adj1" fmla="val 50000"/>
              <a:gd name="adj2" fmla="val 54463"/>
            </a:avLst>
          </a:prstGeom>
          <a:solidFill>
            <a:srgbClr val="d9f60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762120"/>
            <a:ext cx="3353040" cy="825120"/>
          </a:xfrm>
          <a:prstGeom prst="rect">
            <a:avLst/>
          </a:prstGeom>
          <a:noFill/>
          <a:ln cap="sq"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72c03"/>
                </a:solidFill>
                <a:latin typeface="Times New Roman"/>
                <a:ea typeface="隶书"/>
              </a:rPr>
              <a:t>第一条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553080" y="2438280"/>
            <a:ext cx="2438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开张圣听</a:t>
            </a:r>
            <a:endParaRPr b="1" lang="en-US" sz="4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0880" y="3200400"/>
            <a:ext cx="2514600" cy="1783800"/>
          </a:xfrm>
          <a:prstGeom prst="rect">
            <a:avLst/>
          </a:prstGeom>
          <a:noFill/>
          <a:ln cap="sq" w="38160">
            <a:solidFill>
              <a:srgbClr val="d5f1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f026"/>
                </a:solidFill>
                <a:latin typeface="Times New Roman"/>
                <a:ea typeface="黑体"/>
              </a:rPr>
              <a:t>宫中府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f026"/>
                </a:solidFill>
                <a:latin typeface="Times New Roman"/>
                <a:ea typeface="黑体"/>
              </a:rPr>
              <a:t>俱为一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29000" y="3200400"/>
            <a:ext cx="2514600" cy="1783800"/>
          </a:xfrm>
          <a:prstGeom prst="rect">
            <a:avLst/>
          </a:prstGeom>
          <a:noFill/>
          <a:ln cap="sq"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ccff"/>
                </a:solidFill>
                <a:latin typeface="Times New Roman"/>
                <a:ea typeface="黑体"/>
              </a:rPr>
              <a:t>宜</a:t>
            </a:r>
            <a:r>
              <a:rPr b="1" lang="zh-CN" sz="4400" spc="-1" strike="noStrike">
                <a:solidFill>
                  <a:srgbClr val="f0f026"/>
                </a:solidFill>
                <a:latin typeface="Times New Roman"/>
                <a:ea typeface="黑体"/>
              </a:rPr>
              <a:t>付有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ccff"/>
                </a:solidFill>
                <a:latin typeface="Times New Roman"/>
                <a:ea typeface="黑体"/>
              </a:rPr>
              <a:t>不宜</a:t>
            </a:r>
            <a:r>
              <a:rPr b="1" lang="zh-CN" sz="4400" spc="-1" strike="noStrike">
                <a:solidFill>
                  <a:srgbClr val="f0f026"/>
                </a:solidFill>
                <a:latin typeface="Times New Roman"/>
                <a:ea typeface="黑体"/>
              </a:rPr>
              <a:t>偏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819520" y="3809880"/>
            <a:ext cx="761760" cy="60984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555" y="0"/>
                </a:lnTo>
                <a:lnTo>
                  <a:pt x="21600" y="10800"/>
                </a:lnTo>
                <a:lnTo>
                  <a:pt x="12555" y="21600"/>
                </a:lnTo>
                <a:lnTo>
                  <a:pt x="0" y="21600"/>
                </a:lnTo>
                <a:lnTo>
                  <a:pt x="9045" y="10800"/>
                </a:lnTo>
                <a:close/>
              </a:path>
            </a:pathLst>
          </a:custGeom>
          <a:solidFill>
            <a:srgbClr val="ff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00800" y="3352680"/>
            <a:ext cx="2590920" cy="1434600"/>
          </a:xfrm>
          <a:prstGeom prst="rect">
            <a:avLst/>
          </a:prstGeom>
          <a:noFill/>
          <a:ln cap="sq"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以昭平明        之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3886200"/>
            <a:ext cx="762120" cy="533520"/>
          </a:xfrm>
          <a:custGeom>
            <a:avLst/>
            <a:gdLst>
              <a:gd name="textAreaLeft" fmla="*/ 0 w 762120"/>
              <a:gd name="textAreaRight" fmla="*/ 762480 w 7621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150" y="0"/>
                </a:lnTo>
                <a:lnTo>
                  <a:pt x="21600" y="10800"/>
                </a:lnTo>
                <a:lnTo>
                  <a:pt x="12150" y="21600"/>
                </a:lnTo>
                <a:lnTo>
                  <a:pt x="0" y="21600"/>
                </a:lnTo>
                <a:lnTo>
                  <a:pt x="9450" y="10800"/>
                </a:lnTo>
                <a:close/>
              </a:path>
            </a:pathLst>
          </a:custGeom>
          <a:solidFill>
            <a:srgbClr val="ff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0"/>
            <a:ext cx="1371600" cy="685800"/>
          </a:xfrm>
          <a:prstGeom prst="upArrow">
            <a:avLst>
              <a:gd name="adj1" fmla="val 43750"/>
              <a:gd name="adj2" fmla="val 66667"/>
            </a:avLst>
          </a:prstGeom>
          <a:solidFill>
            <a:srgbClr val="ff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514600" y="1143000"/>
            <a:ext cx="3962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cap="sq" w="1908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刑赏严明</a:t>
            </a:r>
            <a:endParaRPr b="1" lang="en-US" sz="5400" spc="1" strike="noStrike">
              <a:ln cap="sq" w="19080">
                <a:solidFill>
                  <a:srgbClr val="ffcc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17" name=""/>
          <p:cNvSpPr/>
          <p:nvPr/>
        </p:nvSpPr>
        <p:spPr>
          <a:xfrm rot="21094200">
            <a:off x="609480" y="837720"/>
            <a:ext cx="3505320" cy="825120"/>
          </a:xfrm>
          <a:prstGeom prst="rect">
            <a:avLst/>
          </a:prstGeom>
          <a:noFill/>
          <a:ln cap="sq"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第二条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4343400" y="2895480"/>
            <a:ext cx="1981080" cy="685800"/>
          </a:xfrm>
          <a:prstGeom prst="rect">
            <a:avLst/>
          </a:prstGeom>
          <a:gradFill rotWithShape="0">
            <a:gsLst>
              <a:gs pos="0">
                <a:srgbClr val="083b6a"/>
              </a:gs>
              <a:gs pos="100000">
                <a:srgbClr val="1282e8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19320" y="4343400"/>
            <a:ext cx="3047760" cy="68580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28d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19320" y="2971800"/>
            <a:ext cx="3047760" cy="68580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28d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19320" y="1600200"/>
            <a:ext cx="3047760" cy="68580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417c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3520"/>
            <a:ext cx="3047760" cy="68580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301" y="0"/>
                </a:lnTo>
                <a:lnTo>
                  <a:pt x="21600" y="10800"/>
                </a:lnTo>
                <a:lnTo>
                  <a:pt x="163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417c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457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宫中之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4572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黑体"/>
              </a:rPr>
              <a:t>先帝简拔之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15238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营中之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86200" y="15238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黑体"/>
              </a:rPr>
              <a:t>先帝称能之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848720" y="228600"/>
            <a:ext cx="914400" cy="15562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荐贤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8954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先汉兴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43400" y="2895480"/>
            <a:ext cx="1981080" cy="764280"/>
          </a:xfrm>
          <a:prstGeom prst="rect">
            <a:avLst/>
          </a:prstGeom>
          <a:noFill/>
          <a:ln cap="sq" w="38160">
            <a:solidFill>
              <a:srgbClr val="4417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ff33"/>
                </a:solidFill>
                <a:latin typeface="Times New Roman"/>
                <a:ea typeface="黑体"/>
              </a:rPr>
              <a:t>亲贤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19320" y="42670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后汉倾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43400" y="42670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ff33"/>
                </a:solidFill>
                <a:latin typeface="Times New Roman"/>
                <a:ea typeface="黑体"/>
              </a:rPr>
              <a:t>亲小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60040" y="3038400"/>
            <a:ext cx="1642680" cy="192564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引教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21105000">
            <a:off x="3960720" y="2895120"/>
            <a:ext cx="3429000" cy="825120"/>
          </a:xfrm>
          <a:prstGeom prst="rect">
            <a:avLst/>
          </a:prstGeom>
          <a:noFill/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第三条建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构分析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403280" y="1052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形势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2340000" y="981000"/>
            <a:ext cx="2592360" cy="863640"/>
            <a:chOff x="2340000" y="981000"/>
            <a:chExt cx="2592360" cy="863640"/>
          </a:xfrm>
        </p:grpSpPr>
        <p:sp>
          <p:nvSpPr>
            <p:cNvPr id="337" name=""/>
            <p:cNvSpPr/>
            <p:nvPr/>
          </p:nvSpPr>
          <p:spPr>
            <a:xfrm>
              <a:off x="2484360" y="981000"/>
              <a:ext cx="24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帝死天下三分益州疲弊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40000" y="1197000"/>
              <a:ext cx="144360" cy="647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403280" y="227664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提出建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340000" y="1989000"/>
            <a:ext cx="1944720" cy="1225080"/>
            <a:chOff x="2340000" y="1989000"/>
            <a:chExt cx="1944720" cy="1225080"/>
          </a:xfrm>
        </p:grpSpPr>
        <p:sp>
          <p:nvSpPr>
            <p:cNvPr id="341" name=""/>
            <p:cNvSpPr/>
            <p:nvPr/>
          </p:nvSpPr>
          <p:spPr>
            <a:xfrm>
              <a:off x="2484360" y="1989000"/>
              <a:ext cx="1800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开张圣听赏罚分明亲贤远佞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40000" y="2205000"/>
              <a:ext cx="216000" cy="10090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6280 h 1009080"/>
                <a:gd name="textAreaBottom" fmla="*/ 982800 h 100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003640" y="1197000"/>
            <a:ext cx="2664000" cy="2016000"/>
            <a:chOff x="5003640" y="1197000"/>
            <a:chExt cx="2664000" cy="2016000"/>
          </a:xfrm>
        </p:grpSpPr>
        <p:sp>
          <p:nvSpPr>
            <p:cNvPr id="344" name=""/>
            <p:cNvSpPr/>
            <p:nvPr/>
          </p:nvSpPr>
          <p:spPr>
            <a:xfrm>
              <a:off x="5435640" y="1628640"/>
              <a:ext cx="22320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Arial"/>
                </a:rPr>
                <a:t>论述透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Arial"/>
                </a:rPr>
                <a:t>句句在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03640" y="1197000"/>
              <a:ext cx="216000" cy="2016000"/>
            </a:xfrm>
            <a:custGeom>
              <a:avLst/>
              <a:gdLst>
                <a:gd name="textAreaLeft" fmla="*/ 0 w 216000"/>
                <a:gd name="textAreaRight" fmla="*/ 78120 w 216000"/>
                <a:gd name="textAreaTop" fmla="*/ 52560 h 2016000"/>
                <a:gd name="textAreaBottom" fmla="*/ 1963440 h 20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3132000" y="4149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身许国  创业艰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132000" y="4581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夙夜忧叹  请命北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32000" y="5013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述职责  诹善纳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372360" y="4292640"/>
            <a:ext cx="2087280" cy="1009440"/>
            <a:chOff x="6372360" y="4292640"/>
            <a:chExt cx="2087280" cy="1009440"/>
          </a:xfrm>
        </p:grpSpPr>
        <p:sp>
          <p:nvSpPr>
            <p:cNvPr id="350" name=""/>
            <p:cNvSpPr/>
            <p:nvPr/>
          </p:nvSpPr>
          <p:spPr>
            <a:xfrm>
              <a:off x="6516720" y="4292640"/>
              <a:ext cx="19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Arial"/>
                </a:rPr>
                <a:t>言词恳切字字有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372360" y="4365720"/>
              <a:ext cx="215640" cy="93636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24120 h 936360"/>
                <a:gd name="textAreaBottom" fmla="*/ 91224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476360" y="4365720"/>
            <a:ext cx="1727280" cy="1008000"/>
            <a:chOff x="1476360" y="4365720"/>
            <a:chExt cx="1727280" cy="1008000"/>
          </a:xfrm>
        </p:grpSpPr>
        <p:sp>
          <p:nvSpPr>
            <p:cNvPr id="353" name=""/>
            <p:cNvSpPr/>
            <p:nvPr/>
          </p:nvSpPr>
          <p:spPr>
            <a:xfrm>
              <a:off x="1476360" y="4365720"/>
              <a:ext cx="1655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Arial"/>
                </a:rPr>
                <a:t>追述身世表明忠贞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87640" y="4365720"/>
              <a:ext cx="216000" cy="1008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835280" y="3213000"/>
            <a:ext cx="0" cy="1079640"/>
          </a:xfrm>
          <a:prstGeom prst="line">
            <a:avLst/>
          </a:prstGeom>
          <a:ln w="316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0920" y="2852640"/>
            <a:ext cx="4176720" cy="1025640"/>
            <a:chOff x="2050920" y="2852640"/>
            <a:chExt cx="4176720" cy="1025640"/>
          </a:xfrm>
        </p:grpSpPr>
        <p:grpSp>
          <p:nvGrpSpPr>
            <p:cNvPr id="357" name=""/>
            <p:cNvGrpSpPr/>
            <p:nvPr/>
          </p:nvGrpSpPr>
          <p:grpSpPr>
            <a:xfrm>
              <a:off x="2050920" y="2852640"/>
              <a:ext cx="4176720" cy="936720"/>
              <a:chOff x="2050920" y="2852640"/>
              <a:chExt cx="4176720" cy="936720"/>
            </a:xfrm>
          </p:grpSpPr>
          <p:sp>
            <p:nvSpPr>
              <p:cNvPr id="358" name=""/>
              <p:cNvSpPr/>
              <p:nvPr/>
            </p:nvSpPr>
            <p:spPr>
              <a:xfrm>
                <a:off x="2050920" y="3284640"/>
                <a:ext cx="0" cy="504720"/>
              </a:xfrm>
              <a:prstGeom prst="line">
                <a:avLst/>
              </a:prstGeom>
              <a:ln w="255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50920" y="3789360"/>
                <a:ext cx="4176720" cy="0"/>
              </a:xfrm>
              <a:prstGeom prst="line">
                <a:avLst/>
              </a:prstGeom>
              <a:ln w="255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6227640" y="2852640"/>
                <a:ext cx="0" cy="936720"/>
              </a:xfrm>
              <a:prstGeom prst="line">
                <a:avLst/>
              </a:prstGeom>
              <a:ln w="25560">
                <a:solidFill>
                  <a:srgbClr val="cc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3059280" y="3357720"/>
              <a:ext cx="28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晓 之 以 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268360" y="5229360"/>
            <a:ext cx="4896000" cy="664920"/>
            <a:chOff x="2268360" y="5229360"/>
            <a:chExt cx="4896000" cy="664920"/>
          </a:xfrm>
        </p:grpSpPr>
        <p:sp>
          <p:nvSpPr>
            <p:cNvPr id="363" name=""/>
            <p:cNvSpPr/>
            <p:nvPr/>
          </p:nvSpPr>
          <p:spPr>
            <a:xfrm>
              <a:off x="2268360" y="5300640"/>
              <a:ext cx="0" cy="50472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68360" y="5805360"/>
              <a:ext cx="4896000" cy="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7164360" y="5229360"/>
              <a:ext cx="0" cy="576000"/>
            </a:xfrm>
            <a:prstGeom prst="line">
              <a:avLst/>
            </a:prstGeom>
            <a:ln w="255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92360" y="537372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动 之 以 情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116000" y="5877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出师一表真名世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千载谁堪伯仲间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79280" y="1341360"/>
            <a:ext cx="936720" cy="3743280"/>
            <a:chOff x="179280" y="1341360"/>
            <a:chExt cx="936720" cy="3743280"/>
          </a:xfrm>
        </p:grpSpPr>
        <p:sp>
          <p:nvSpPr>
            <p:cNvPr id="369" name=""/>
            <p:cNvSpPr/>
            <p:nvPr/>
          </p:nvSpPr>
          <p:spPr>
            <a:xfrm>
              <a:off x="900000" y="1341360"/>
              <a:ext cx="216000" cy="374328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97560 h 3743280"/>
                <a:gd name="textAreaBottom" fmla="*/ 3645720 h 374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79280" y="2349360"/>
              <a:ext cx="827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出师表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7688880" y="1700280"/>
            <a:ext cx="1155240" cy="4176720"/>
            <a:chOff x="7688880" y="1700280"/>
            <a:chExt cx="1155240" cy="4176720"/>
          </a:xfrm>
        </p:grpSpPr>
        <p:sp>
          <p:nvSpPr>
            <p:cNvPr id="372" name=""/>
            <p:cNvSpPr/>
            <p:nvPr/>
          </p:nvSpPr>
          <p:spPr>
            <a:xfrm>
              <a:off x="7885080" y="1700280"/>
              <a:ext cx="358920" cy="4176720"/>
            </a:xfrm>
            <a:custGeom>
              <a:avLst/>
              <a:gdLst>
                <a:gd name="textAreaLeft" fmla="*/ 0 w 358920"/>
                <a:gd name="textAreaRight" fmla="*/ 129600 w 358920"/>
                <a:gd name="textAreaTop" fmla="*/ 108720 h 4176720"/>
                <a:gd name="textAreaBottom" fmla="*/ 4068000 h 417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314"/>
                  </a:lnTo>
                  <a:cubicBezTo>
                    <a:pt x="10800" y="10214"/>
                    <a:pt x="16200" y="11114"/>
                    <a:pt x="21600" y="11114"/>
                  </a:cubicBezTo>
                  <a:cubicBezTo>
                    <a:pt x="16200" y="11114"/>
                    <a:pt x="10800" y="12014"/>
                    <a:pt x="10800" y="12914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88880" y="2205000"/>
              <a:ext cx="1155240" cy="25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议论叙事抒情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905120" y="533520"/>
            <a:ext cx="228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著名的政治家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724280" y="609480"/>
            <a:ext cx="1371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军事家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057400" y="4419720"/>
            <a:ext cx="1676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生于</a:t>
            </a: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181</a:t>
            </a: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年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34320" y="914400"/>
            <a:ext cx="1154160" cy="1376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发明家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952880" y="4267080"/>
            <a:ext cx="30481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234</a:t>
            </a: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年病卒于五丈原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676520" y="2286000"/>
            <a:ext cx="1866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字孔明</a:t>
            </a:r>
            <a:endParaRPr b="1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867280" y="2209680"/>
            <a:ext cx="2514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黑体"/>
              </a:rPr>
              <a:t>山东沂水人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8120" y="1676520"/>
            <a:ext cx="34290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蜀相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 rot="20938200">
            <a:off x="196560" y="30240"/>
            <a:ext cx="332424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隶书"/>
              </a:rPr>
              <a:t>文言积累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隶书"/>
              <a:ea typeface="隶书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413000"/>
            <a:ext cx="91440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一、实词总结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道：① “中道崩殂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道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咨诹善道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办法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遗：① “以光先帝遗德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遗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帝简拔以遗陛下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给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为：① “仅为一体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有作奸犯科及为忠善者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做，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③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众议举宠为督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做，担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论：① “宜付有司论其刑赏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评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与臣论此事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议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765000"/>
            <a:ext cx="8064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无：① “若无兴德之言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没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无大小，悉以咨之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行：① “然后施行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实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性行淑均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行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③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能使行阵和睦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行列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益：① “有所广益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益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于斟酌损益”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增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93372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二、古今异义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4724280"/>
            <a:ext cx="410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、诚宜开张圣听：开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、不宜妄自菲薄：菲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95640" y="4653000"/>
            <a:ext cx="51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古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扩大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;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今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铺面开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95640" y="5300640"/>
            <a:ext cx="40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古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轻视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看不起自己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今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微薄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333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晓畅军事：晓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708360" y="260280"/>
            <a:ext cx="45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古：精通；今：流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119700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此先汉所以兴隆也：所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219640" y="1197000"/>
            <a:ext cx="31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古：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……的原因今：表示结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234936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未尝不叹息痛恨于桓、灵也：痛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32000" y="3068640"/>
            <a:ext cx="525636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古：痛心遗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今：很不满意或非常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422100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先帝不以臣卑鄙：卑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95640" y="494172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古：出身低微、目光短小今：行为卑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6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476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咨臣以当世之事，由是感激：感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27280" y="105264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古：感动奋发今：感动感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227664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先帝知臣谨慎：谨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43280" y="2205000"/>
            <a:ext cx="290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古：认真谨慎今：做事小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357720"/>
            <a:ext cx="61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今当远离，临表涕零：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6360" y="3357720"/>
            <a:ext cx="3887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古：眼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今：鼻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4653000"/>
            <a:ext cx="61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此诚危急存亡之秋也：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51640" y="4724280"/>
            <a:ext cx="280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古：实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今：诚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50920" y="620640"/>
            <a:ext cx="81374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而：① “先帝创业未半而中道崩殂”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②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计日而待也”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连接状语与中心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于：① “然侍卫之臣不懈于内”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②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欲报之于陛下也”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及于，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③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未尝不叹”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对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④ “还于旧都”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以：① “咨臣以当世之事”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，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②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诚直开张圣听，以光先帝遗德”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③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宜妄自菲薄，引喻失义，以塞忠                 谏之路也。”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因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④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受命以来，夙夜忧叹”。表时间、地域等界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⑤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愚以为宫中之事”。 认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7699320" y="-163800"/>
            <a:ext cx="115560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暗淡了刀光剑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56680" y="457200"/>
            <a:ext cx="176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远去了鼓角争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46840" y="457200"/>
            <a:ext cx="1765080" cy="42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眼前飞扬着一个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鲜活的面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9640" y="-189000"/>
            <a:ext cx="115560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湮没了荒城古道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56120" y="-138240"/>
            <a:ext cx="115560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荒芜了烽火边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3480" y="88920"/>
            <a:ext cx="176508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岁月啊，你带不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那一串串熟悉的姓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51520" y="533520"/>
            <a:ext cx="298404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兴亡谁人定…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盛衰岂无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61000" y="3581280"/>
            <a:ext cx="237456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夜风云散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变幻了时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679760" y="122040"/>
            <a:ext cx="1765080" cy="36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聚散皆是缘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离合总关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03440" y="3169800"/>
            <a:ext cx="1765080" cy="36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担当生前事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何计身后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3080" y="-262440"/>
            <a:ext cx="176508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江有意化作泪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江有情起歌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" y="-286920"/>
            <a:ext cx="1155600" cy="70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历史的天空闪烁几颗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-576000" y="3326040"/>
            <a:ext cx="115560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人间一股英雄气在驰骋纵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3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200"/>
                            </p:stCondLst>
                            <p:childTnLst>
                              <p:par>
                                <p:cTn id="1243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5" dur="3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7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3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5400"/>
                            </p:stCondLst>
                            <p:childTnLst>
                              <p:par>
                                <p:cTn id="1251" nodeType="afterEffect" fill="hold" presetClass="entr" presetID="9">
                                  <p:stCondLst>
                                    <p:cond delay="8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3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252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8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3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34700"/>
                            </p:stCondLst>
                            <p:childTnLst>
                              <p:par>
                                <p:cTn id="1259" nodeType="afterEffect" fill="hold" presetClass="entr" presetID="9">
                                  <p:stCondLst>
                                    <p:cond delay="9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3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fill="hold">
                            <p:stCondLst>
                              <p:cond delay="47600"/>
                            </p:stCondLst>
                            <p:childTnLst>
                              <p:par>
                                <p:cTn id="1263" nodeType="afterEffect" fill="hold" presetClass="entr" presetID="9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3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60300"/>
                            </p:stCondLst>
                            <p:childTnLst>
                              <p:par>
                                <p:cTn id="1267" nodeType="afterEffect" fill="hold" presetClass="entr" presetID="9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3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72700"/>
                            </p:stCondLst>
                            <p:childTnLst>
                              <p:par>
                                <p:cTn id="1271" nodeType="afterEffect" fill="hold" presetClass="entr" presetID="9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3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85400"/>
                            </p:stCondLst>
                            <p:childTnLst>
                              <p:par>
                                <p:cTn id="1275" nodeType="afterEffect" fill="hold" presetClass="entr" presetID="9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7" dur="3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9780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9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3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109800"/>
                            </p:stCondLst>
                            <p:childTnLst>
                              <p:par>
                                <p:cTn id="1283" nodeType="afterEffect" fill="hold" presetClass="entr" presetID="9">
                                  <p:stCondLst>
                                    <p:cond delay="9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3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121200"/>
                            </p:stCondLst>
                            <p:childTnLst>
                              <p:par>
                                <p:cTn id="1287" nodeType="afterEffect" fill="hold" presetClass="entr" presetID="9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3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85800"/>
            <a:ext cx="7543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杜甫：</a:t>
            </a:r>
            <a:r>
              <a:rPr b="1" lang="zh-CN" sz="4800" spc="-1" strike="noStrike">
                <a:solidFill>
                  <a:srgbClr val="ffff66"/>
                </a:solidFill>
                <a:latin typeface="华文新魏"/>
                <a:ea typeface="华文新魏"/>
              </a:rPr>
              <a:t>出师未捷身先死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华文新魏"/>
                <a:ea typeface="华文新魏"/>
              </a:rPr>
              <a:t>     </a:t>
            </a:r>
            <a:r>
              <a:rPr b="1" lang="zh-CN" sz="4800" spc="-1" strike="noStrike">
                <a:solidFill>
                  <a:srgbClr val="ffff66"/>
                </a:solidFill>
                <a:latin typeface="华文新魏"/>
                <a:ea typeface="华文新魏"/>
              </a:rPr>
              <a:t>常使英雄泪满襟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380880" y="3200400"/>
            <a:ext cx="74674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  </a:t>
            </a:r>
            <a:r>
              <a:rPr b="1" lang="zh-CN" sz="48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鞠躬尽瘁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死而后已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952880" y="3276720"/>
            <a:ext cx="3962520" cy="28191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362320" y="1676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304920" y="457200"/>
            <a:ext cx="4343400" cy="5943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76920" y="0"/>
            <a:ext cx="37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诸葛亮是中国人民智慧的化身。“三顾茅庐”、“火烧赤璧”“六出祁山”等脍炙人口的故事在中国是家喻户晓的。诸葛亮的文才韬略令人倾倒。他撰写的《出师表》是汉末以来的第一流杰作，文章质朴诚挚，志尽文畅。为后人所钦仰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1641600"/>
            <a:ext cx="7925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_x000b__x000c_"/>
                <a:ea typeface="隶书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_x000b__x000c_"/>
                <a:ea typeface="隶书"/>
              </a:rPr>
              <a:t>是古代奏议的一种，是古代臣子向君主陈述自己的请求、愿望或意见的一种文书样式，也叫“奏章”或“奏疏”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533520"/>
            <a:ext cx="30481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表</a:t>
            </a:r>
            <a:endParaRPr b="0" lang="en-US" sz="60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5T08:27:39Z</dcterms:created>
  <dc:creator/>
  <dc:description/>
  <dc:language>en-US</dc:language>
  <cp:lastModifiedBy>dell</cp:lastModifiedBy>
  <dcterms:modified xsi:type="dcterms:W3CDTF">2013-11-18T06:10:43Z</dcterms:modified>
  <cp:revision>23</cp:revision>
  <dc:subject/>
  <dc:title>幻灯片 1</dc:title>
</cp:coreProperties>
</file>